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5E2-E56B-40C7-B8F0-90356360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ABA-5FE8-434C-AAA8-0C3E09A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169-502C-4327-AA32-8F72A38B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413-CDA2-4C53-9A40-1B124788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3AB-F56C-4A9A-9455-2ECCD30F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E0A-14F2-48B7-B468-99950BD6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1A3-A82E-4317-B354-C971AE80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5F1-48BC-4571-9CEF-7969F0B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C79-1896-4776-A55C-ED3D549A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BF8-A934-4C5F-BFCF-2CFDA96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926-C8FB-49F9-9610-4FBBA34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CFA-697F-4068-A6D3-7BC5735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F5FE-F94D-4C94-B9AE-53FCE8E4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603360" y="712800"/>
            <a:ext cx="66452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4419720" y="4952880"/>
            <a:ext cx="1066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6597 -0.0081 0.11493 -0.02801 0.11493 -0.04398 C 0.11493 -0.05856 0.06701 -0.06944 0.00295 -0.06944 C -0.06094 -0.06944 -0.11494 -0.05856 -0.11494 -0.04398 C -0.11494 -0.02801 -0.05903 -0.02407 0.00503 -0.03472 C 0.06805 -0.04676 0.11493 -0.06667 0.11493 -0.08125 C 0.11493 -0.09606 0.06597 -0.1081 0.00295 -0.1081 C -0.06094 -0.1081 -0.11494 -0.09606 -0.11494 -0.08125 C -0.11494 -0.06667 -0.05903 -0.06273 0.00399 -0.07338 C 0.06805 -0.08403 0.11493 -0.10393 0.11493 -0.11875 C 0.11493 -0.13472 0.06597 -0.14676 0.00208 -0.14676 C -0.06094 -0.14676 -0.11494 -0.13472 -0.11494 -0.11875 C -0.11494 -0.10532 -0.05903 -0.10139 0.00399 -0.11065 C 0.06701 -0.1213 0.11493 -0.14259 0.11493 -0.15741 C 0.11493 -0.17199 0.06493 -0.18403 0.00208 -0.18403 C -0.06303 -0.18403 -0.11494 -0.17199 -0.11494 -0.15741 C -0.11494 -0.14259 -0.06007 -0.13866 0.00295 -0.1493 C 0.06597 -0.15995 0.11493 -0.18009 0.11493 -0.19468 C 0.11493 -0.21065 0.06493 -0.2213 0.00104 -0.2213 C -0.06303 -0.2213 -0.11494 -0.20926 -0.11494 -0.19468 C -0.11494 -0.18009 -0.06007 -0.17593 0.00295 -0.18657 C 0.06597 -0.19722 0.11493 -0.21875 0.11493 -0.23194 C 0.11493 -0.24676 0.06406 -0.25856 0.00104 -0.25856 C -0.06303 -0.25856 -0.11494 -0.24676 -0.11494 -0.23194 C -0.11494 -0.21875 -0.06094 -0.21458 0.00295 -0.22407 C 0.06597 -0.23472 0.11493 -0.25602 0.11493 -0.2706 C 0.11493 -0.28403 0.06406 -0.29722 4.72222E-006 -0.29722 C -0.06407 -0.29722 -0.11494 -0.28542 -0.11494 -0.2706 C -0.11494 -0.25602 -0.06094 -0.25208 0.00208 -0.26273 C 0.06493 -0.27338 0.11597 -0.29329 0.11493 -0.3081 C 0.11406 -0.32268 0.06406 -0.33333 4.72222E-006 -0.33333 C -0.06407 -0.33333 -0.11494 -0.3213 -0.11494 -0.30671 C -0.11494 -0.29329 -0.06303 -0.28935 4.72222E-006 -0.30139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C 0.02344 -0.03125 0.01215 -0.025 0.0283 -0.03194 C 0.03959 -0.04351 0.04844 -0.05347 0.06094 -0.06389 C 0.07622 -0.09074 0.09653 -0.10555 0.11528 -0.12777 C 0.15278 -0.17222 0.19097 -0.22222 0.21754 -0.27824 C 0.23715 -0.32083 0.2467 -0.35069 0.26094 -0.4 C 0.26389 -0.41111 0.26754 -0.43264 0.26754 -0.4324 C 0.26615 -0.43588 0.26563 -0.44074 0.2632 -0.44351 C 0.26077 -0.44606 0.2559 -0.44305 0.25434 -0.44652 C 0.2375 -0.48402 0.23143 -0.5125 0.22188 -0.55092 C 0.21893 -0.58171 0.21042 -0.60671 0.20226 -0.63541 C 0.18733 -0.68726 0.17465 -0.72592 0.14358 -0.76527 C 0.14323 -0.76574 0.11858 -0.79074 0.1132 -0.79143 C 0.08577 -0.7949 0.05816 -0.79537 0.03056 -0.79722 C -0.00069 -0.79629 -0.03177 -0.79583 -0.06302 -0.79421 C -0.0868 -0.79282 -0.0618 -0.79166 -0.08246 -0.78564 C -0.08958 -0.78356 -0.09705 -0.78356 -0.10434 -0.78264 C -0.13073 -0.77129 -0.15503 -0.75115 -0.18246 -0.7449 C -0.20764 -0.73148 -0.2283 -0.72963 -0.25642 -0.72754 C -0.27153 -0.72106 -0.28628 -0.71828 -0.30208 -0.71597 C -0.3158 -0.71782 -0.32986 -0.71759 -0.3434 -0.72176 C -0.34635 -0.72268 -0.34722 -0.72847 -0.35 -0.73055 C -0.3526 -0.7324 -0.35573 -0.7324 -0.35868 -0.73333 C -0.36337 -0.74282 -0.3691 -0.74722 -0.37378 -0.75671 C -0.37309 -0.7625 -0.37413 -0.76921 -0.3717 -0.77407 C -0.36666 -0.78379 -0.35625 -0.78588 -0.35 -0.79421 C -0.33298 -0.81689 -0.29965 -0.84328 -0.27604 -0.85231 C -0.26736 -0.85902 -0.2585 -0.86296 -0.25 -0.86967 C -0.22882 -0.88657 -0.24548 -0.87801 -0.2217 -0.88703 C -0.2217 -0.8868 -0.21875 -0.87546 -0.21736 -0.86967 C -0.21666 -0.86689 -0.21736 -0.87546 -0.21736 -0.87824 E"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ffd1"/>
                </a:solidFill>
                <a:latin typeface="Times New Roman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4008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esert.jpg"/>
          <p:cNvPicPr/>
          <p:nvPr/>
        </p:nvPicPr>
        <p:blipFill>
          <a:blip r:embed="rId2"/>
          <a:stretch/>
        </p:blipFill>
        <p:spPr>
          <a:xfrm>
            <a:off x="1752480" y="1752480"/>
            <a:ext cx="3000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oasis.jpg"/>
          <p:cNvPicPr/>
          <p:nvPr/>
        </p:nvPicPr>
        <p:blipFill>
          <a:blip r:embed="rId1"/>
          <a:stretch/>
        </p:blipFill>
        <p:spPr>
          <a:xfrm>
            <a:off x="2133720" y="1752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www.worldatlas.com/aatlas/infopage/hormuz.gif"/>
          <p:cNvPicPr/>
          <p:nvPr/>
        </p:nvPicPr>
        <p:blipFill>
          <a:blip r:embed="rId2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nasa.gov/images/content/150519main_image_feature_595_ys_4.jpg"/>
          <p:cNvPicPr/>
          <p:nvPr/>
        </p:nvPicPr>
        <p:blipFill>
          <a:blip r:embed="rId3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82880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it is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acier is a chunk  of  ice   true or fal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1905120" y="6334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glacer.jpg"/>
          <p:cNvPicPr/>
          <p:nvPr/>
        </p:nvPicPr>
        <p:blipFill>
          <a:blip r:embed="rId2"/>
          <a:stretch/>
        </p:blipFill>
        <p:spPr>
          <a:xfrm>
            <a:off x="2438280" y="2590920"/>
            <a:ext cx="3571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ease of land is sticking out with water on 3 sides what is i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insula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t.jpg"/>
          <p:cNvPicPr/>
          <p:nvPr/>
        </p:nvPicPr>
        <p:blipFill>
          <a:blip r:embed="rId1"/>
          <a:stretch/>
        </p:blipFill>
        <p:spPr>
          <a:xfrm>
            <a:off x="5791320" y="243828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477120" y="51811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 large area of flat or nearly flat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great planes.jpg"/>
          <p:cNvPicPr/>
          <p:nvPr/>
        </p:nvPicPr>
        <p:blipFill>
          <a:blip r:embed="rId2"/>
          <a:stretch/>
        </p:blipFill>
        <p:spPr>
          <a:xfrm>
            <a:off x="1143000" y="335268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55308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ape of good hope.JPG"/>
          <p:cNvPicPr/>
          <p:nvPr/>
        </p:nvPicPr>
        <p:blipFill>
          <a:blip r:embed="rId2"/>
          <a:stretch/>
        </p:blipFill>
        <p:spPr>
          <a:xfrm>
            <a:off x="2057400" y="2057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023 L -0.31666 0.35532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e place where a river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river s.jpg"/>
          <p:cNvPicPr/>
          <p:nvPr/>
        </p:nvPicPr>
        <p:blipFill>
          <a:blip r:embed="rId2"/>
          <a:stretch/>
        </p:blipFill>
        <p:spPr>
          <a:xfrm>
            <a:off x="2133720" y="1676520"/>
            <a:ext cx="30477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c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ntent Placeholder 8" descr="valcano.jpg"/>
          <p:cNvPicPr/>
          <p:nvPr/>
        </p:nvPicPr>
        <p:blipFill>
          <a:blip r:embed="rId2"/>
          <a:stretch/>
        </p:blipFill>
        <p:spPr>
          <a:xfrm>
            <a:off x="1371600" y="2743200"/>
            <a:ext cx="2666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te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ntent Placeholder 7" descr="cape of good hope.JPG"/>
          <p:cNvPicPr/>
          <p:nvPr/>
        </p:nvPicPr>
        <p:blipFill>
          <a:blip r:embed="rId2"/>
          <a:stretch/>
        </p:blipFill>
        <p:spPr>
          <a:xfrm>
            <a:off x="0" y="4572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6294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ANd9GcQwduJBLsvv3yCDC99xd8oKTkOg6Eq_aMuifMGbMU22OcXDRX4Ugk7jjSRwBg"/>
          <p:cNvPicPr/>
          <p:nvPr/>
        </p:nvPicPr>
        <p:blipFill>
          <a:blip r:embed="rId3"/>
          <a:stretch/>
        </p:blipFill>
        <p:spPr>
          <a:xfrm>
            <a:off x="990720" y="2362320"/>
            <a:ext cx="3533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eries of connected mountai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Placeholder 4" descr="smoky montan range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0" y="914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812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untain 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ffd1"/>
                </a:solidFill>
                <a:latin typeface="Times New Roman"/>
              </a:rPr>
              <a:t>--</a:t>
            </a:r>
            <a:r>
              <a:rPr b="0" lang="en-US" sz="4400" spc="-1" strike="noStrike">
                <a:solidFill>
                  <a:srgbClr val="47ffd1"/>
                </a:solidFill>
                <a:latin typeface="Times New Roman"/>
              </a:rPr>
              <a:t> 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glacer.jpg"/>
          <p:cNvPicPr/>
          <p:nvPr/>
        </p:nvPicPr>
        <p:blipFill>
          <a:blip r:embed="rId2"/>
          <a:stretch/>
        </p:blipFill>
        <p:spPr>
          <a:xfrm>
            <a:off x="533520" y="1905120"/>
            <a:ext cx="3571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10-03T20:31:00Z</dcterms:modified>
  <cp:revision>49</cp:revision>
  <dc:subject/>
  <dc:title>PowerPoint Presentation</dc:title>
</cp:coreProperties>
</file>